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0314-331C-41E4-98D4-5D9DD7213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2514-D834-4D80-865E-E142ED94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17A3-6B60-49F6-B5F0-C30F14440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CAF0-4D56-444C-BBB4-6E751C39E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6B349-E25A-4910-AE1F-1D2372811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132753-2FBF-40EE-B202-28C3A3C8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316E3-0866-495A-8F00-DE6E0805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3340C3-77EB-4D78-BAAD-E6B01630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DF9165-A703-4ACC-B49E-855B71D7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CA8F88-A224-4F01-A672-1CC812BF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2DD4C-2DF6-43F0-9BDB-5380F011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0057-554E-4F49-865C-42C6FD7A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1CF02-0862-4493-9560-FFB9EAB9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E31AE5-45FC-4AA2-936D-36159804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C1217F-CE32-4BF6-B279-146F138B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7CBA4-381D-4BC2-9225-9EF815F8D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D2B8D-7850-4DB4-BA3B-B265FCFEC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C5AF-E8DF-4A8E-8CBC-738697DF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3C49-E635-4F6D-B56B-964FC88D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9DB6-5514-4FC7-AE9A-7CB9ED82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06CB-5F81-4599-824B-8C5AA5EE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8B44-5982-4081-8416-410286EE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A59E-5A39-4445-83F7-814A4A12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38A1-333E-4092-A171-57B87AFE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C2AB-BDAD-4E16-96B2-CE6D738F55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7820-52BF-4CDD-9076-0922DBD133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uanclucero@dyg.cl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PODER ÉTICA Y GESTIÓ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186920" y="3141360"/>
            <a:ext cx="65120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e Nro 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stión del cambio, poder y ét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-54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f.:Juan Carlos Lucero 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f. Aux.:Günther kallina 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juanclucero@dyg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gkallina@gruposol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¿Qué es el cambio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843588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curre en un observador, tanto en términos de hechos como de evalua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us consecuencias dependen del observador y de las destrezas de és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Genera, en diversos grados, conflictos de poder y éti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n el dominio del poder cambia la correlación de fuerz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n relación a la ética, emerge una nueva correlación de valores. Cambia lo permitido o deseado y no lo permitido o no dese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 solo genera resultados o impactos  diferenciales, los que lo posibilitarán, si no emergen nuevas prácticas que lo sustent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esafío de aprendizaje; paradigmas, emociones frente a incertidumbre, observar oportunidades e incorporar  nuevas práctic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e valida por la estructura de poder de una comunidad. No necesariamente importan todas las consecuencias, si las que les importan a los con poder para hacerlos val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Etapas vividas en un proceso de cambio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gación del cambio. Esconder la cabeza como el avestruz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ra y enojo. Posibilidad de resentimiento y resignación. Sensación de injusticia e impoten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ena y tristeza, posible vícti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diseño de un nuevo futuro. Lo que requie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cerrar el pasado y aceptar el camb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ver posibilidades para si en el nuevo escen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tomar acción para construir poder, en base a las fortalezas y debilidades y amenazas y oportun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evaluación y rediseño permanente del proceso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onflictos de poder en el cambio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e oponen  dos tipos de comunidad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os que ven amenazas , dado que tienen dominio y poder desde las prácticas cuestionadas. Estas amenazas pueden ser fundadas o infundad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os lideres de espacios éticos de una comunidad. A veces se entra en conflicto con creencias y valores en otros dominios, ejemplo; Galileo, clonación, “nuestra empresa no se creó para hacer esto”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 siempre es tan claro mostrar los resultados del cambio plantea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a comunidad es observadora de las prácticas, consecuencias y coherencias del paradigma anterio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veces el proyecto piloto para mostrar resultados es costoso y no hay dispuestos a experimenta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o siempre es trivial la relación de causalidad entre prácticas , cambios y resultad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uchas veces el cambio genera requerimientos de infraestructura y de aprendizaje disponibles solo en periodos  muy largos y a veces los lideres del cambio no son muy sensibles a es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nflictos éticos en el cambi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flictos de intereses. Dilemas étic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glas éticas para lidiar con adversarios y conflict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o saber que de lo anterior preservar y que quitar y como se acopla con lo nuev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ue lugar de la escala ética ocupan los integrantes de una comunidad, el cambio lo hago con ellos o contra ello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6868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Estrategias de procesos de cambio I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692280"/>
            <a:ext cx="83628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seño equipo de cambio. Primera red de ali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valuación de impacto en actores relevante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lasificándolos por grado de relevancia. Malla de pod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neficios y objeciones reconoci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tegorización de actores en : Aliados, adversarios, neutrales. En cada uno distinguiéndolos en  tres gr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seño cronograma de actividades, con hitos visibles. Debe considerarse lo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gir primero actividades de alto impacto y de bajos trastornos para la organiz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 la medida que los cambios se profundizan, se profundizan la incorporación de ali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s procesos identificados y los tiempos considerados deben ser producto de la capacidad de cambio de la organiz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be contemplar holguras y espacios de redise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50752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Estrategia de procesos de cambio II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seño comunicac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versaciones de obje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exto de información de  respaldo a las nuevas formas de trabaj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itos de comunicación , coincidentes con los hitos del proyecto, “cacarear huevos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nejo de conflict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gociación. Postergación de activ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olpes de pod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seño Organizacional dinámico que sustentará el camb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uevas responsabilidades, roles y equip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seño plan de aprendizaj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stema de seguimiento y rediseño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2T22:31:44Z</dcterms:created>
  <dc:creator>Juan Carlos Lucero Larenas</dc:creator>
  <dc:description/>
  <dc:language>en-US</dc:language>
  <cp:lastModifiedBy>Juan Carlos Lucero Larenas</cp:lastModifiedBy>
  <dcterms:modified xsi:type="dcterms:W3CDTF">2004-09-21T02:16:33Z</dcterms:modified>
  <cp:revision>18</cp:revision>
  <dc:subject/>
  <dc:title>PODER ÉTICA Y GESTIÓN</dc:title>
</cp:coreProperties>
</file>